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85DB64F-5CA9-4FA8-A6E3-6B70A1D60DB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October 5,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5</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826920"/>
            <a:ext cx="8077320" cy="4677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Updat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1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2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SCED MP Handboo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approved the EDS 3 SCED MP Handbook v1.04 with updates as submitted by the EDS Project. The motion carried by roll-call vote, with 100% in favor and one abstention (CenterPoint). All Market Segments, except the Independent Retail Electric Provider (IREP) and Consumer Market Segment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RF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dule for registering Load Resources</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5 (continued)</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826920"/>
            <a:ext cx="8077320" cy="537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cessity for LMP Contour Map</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endorsed the GIS display of relevant market data as critical for market transparency and for usability to market participants and ERCOT. It is the opinion of TPTF that the graphic displays represent functionality that is already contained in the Nodal Protocols, and they do not represent an addition to program scope. The motion carried by unanimous roll-call vote, with no abstentions.  All Market Segments, except Consumer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of Electrical Bus and Settlement Price Point mapp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per Prototypes for Settlement Stat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d COMS Requirements fo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M Detailed Design documentation fo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mp;B Detailed Design documentation fo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Settlement Clarifications to RUC Capacity Shortfall Ratio Share Formula (review disposition of comments)</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5 (continued)</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826920"/>
            <a:ext cx="8077320" cy="5368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5, TPTF discussed the following:</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iscussion of comments for NPRR082, Section 8, Performance Monitoring and Compliance, Revisions to Monitoring and Qualification Tests</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5, TPTF approved submitting comments to PRS for NPRR082, Section 8, Performance Monitoring and Compliance, Revisions to Monitoring and Qualification Tests, as agreed upon by TPTF and Occidental. The motion carried by roll-call vote, with 100% in favor and seven abstentions (CenterPoint, First Choice, TNMP, City of Allen, City of Eastland, Coral Power, and Exelon). All Market Segments were represented for the vote.</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IP Update</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New External Web Services for TPTF review</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RR Update</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view disposition of comments for the EDS CRR Testing Market Participant Handbook</a:t>
            </a:r>
            <a:endParaRPr b="0" lang="en-US" sz="1700" spc="-1" strike="noStrike">
              <a:solidFill>
                <a:srgbClr val="000000"/>
              </a:solidFill>
              <a:latin typeface="Arial"/>
            </a:endParaRPr>
          </a:p>
          <a:p>
            <a:pPr lvl="3" marL="13716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5,2007, TPTF approved the EDS CRR MP Testing Handbook v0.04 with the modifications made by TPTF. The vote carried by roll-call vote, with 100% in favor and two abstentions (CenterPoint and Reliant). The Consumer Market Segment was not represented for the vote.</a:t>
            </a:r>
            <a:r>
              <a:rPr b="1" lang="en-US" sz="1700" spc="-1" strike="noStrike">
                <a:solidFill>
                  <a:srgbClr val="000000"/>
                </a:solidFill>
                <a:latin typeface="Arial"/>
              </a:rPr>
              <a:t> </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itial Review of TCR to CRR Transition Plan</a:t>
            </a:r>
            <a:endParaRPr b="0" lang="en-US" sz="17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6</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826920"/>
            <a:ext cx="8077320" cy="4824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discussed the following:</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5, Generate Locational Marginal Prices (LMPs) for 6 month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0, ERCOT Engage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endorsed ERCOT moving forward with metrics MO5 and E0 as modified by TPTF on September 26, 2007 in the Active Readiness Metric Inventory v1.3. The motion carried by roll-call vote, with 100% in favor and three abstentions (CPS San Antonio, City of Allen, and City of Eastland). All Market Segments were represented for the vo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ocument prepared by Subgroup on Section 8 Monitoring Programs– discussion continued from September 24.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istribution process for the new broad-form Non-Disclosure Agreement (NDA)</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6 (continued)</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826920"/>
            <a:ext cx="8077320" cy="526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updated MMS Requirements for Overall MMS and Other Processe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MMS Overall MMS System and Other Processes Requirements (B2) v1.02 following changes discussed by TPTF on September 26, 2007. The motion carried by roll-call vote, with 100% in favor and one abstention (TNMP). All Market Segments, except the Consumer Market Segment, were represented for the vot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updated MMS Requirements for SCED and Real-Time Processe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MMS SCED and Real-Time MMS Processes Requirements (B2) v1.02 following changes discussed by TPTF on September 26,2007. The motion carried by roll-call vote, with 100% in favor and three abstentions (CenterPoint, TNMP, and Exelon). All Market Segments, except the Consumer Market Segment, were represented for the vot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MS documentation and schedule</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3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October 8 and Tuesday October 9</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October 22 and Tuesday October 23</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5 and Tuesday November 6</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26 through Wednesday November 28</a:t>
            </a:r>
            <a:endParaRPr b="0" lang="en-US" sz="1800" spc="-1" strike="noStrike">
              <a:solidFill>
                <a:srgbClr val="000000"/>
              </a:solidFill>
              <a:latin typeface="Arial"/>
            </a:endParaRPr>
          </a:p>
        </p:txBody>
      </p:sp>
      <p:sp>
        <p:nvSpPr>
          <p:cNvPr id="13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0880" y="765000"/>
            <a:ext cx="8610840" cy="5424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October 8 and 9,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the internal ERCOT readiness survey</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Business Process Clarification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CR to CRR Transition Pla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DAM/SASM</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CC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RUC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LFC Handboo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concept of reasonableness for LMPs</a:t>
            </a:r>
            <a:endParaRPr b="0" lang="en-US" sz="1800" spc="-1" strike="noStrike">
              <a:solidFill>
                <a:srgbClr val="000000"/>
              </a:solidFill>
              <a:latin typeface="Arial"/>
            </a:endParaRPr>
          </a:p>
        </p:txBody>
      </p:sp>
      <p:sp>
        <p:nvSpPr>
          <p:cNvPr id="14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0880" y="765000"/>
            <a:ext cx="8610840" cy="21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October 8 and 9,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PS comments for Draft NPRR for Failure to Update Verifiable Cost Data Results in Use of Resource Category Generic Cos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MS Requirements updated through Baseline 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P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new External Web Services</a:t>
            </a:r>
            <a:endParaRPr b="0" lang="en-US" sz="1800" spc="-1" strike="noStrike">
              <a:solidFill>
                <a:srgbClr val="000000"/>
              </a:solidFill>
              <a:latin typeface="Arial"/>
            </a:endParaRPr>
          </a:p>
        </p:txBody>
      </p:sp>
      <p:sp>
        <p:nvSpPr>
          <p:cNvPr id="1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5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380880" y="914400"/>
            <a:ext cx="8458200" cy="4310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endorsed ERCOT moving forward with the metrics MP12 and E3 as modified by TPTF on September 11, 2007 in the Active Metric Inventory v1.2. The motion carried by roll-call vote, with 100% in favor and two abstentions (First Choice Power and AEP). All Market Segments, except the Consumer Market Segment,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endorsed ERCOT moving forward with the metrics MP6, EMO9, N2, and N3 as modified by TPTF on September 24, 2007 in the Active Readiness Metric Inventory v1.3. The motion carried by roll-call vote, with 100% in favor and two abstentions (TXU and Exelon). All Market Segments, except the Consumer and Cooperative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endorsed ERCOT moving forward with metrics MO5 and E0 as modified by TPTF on September 26, 2007 in the Active Readiness Metric Inventory v1.3. The motion carried by roll-call vote, with 100% in favor and three abstentions (CPS San Antonio, City of Allen, and City of Eastland). All Market Segments were represented for the vote. </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16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
          <p:cNvSpPr/>
          <p:nvPr/>
        </p:nvSpPr>
        <p:spPr>
          <a:xfrm>
            <a:off x="380880" y="914400"/>
            <a:ext cx="8458200" cy="3341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3, Validate Telemetry/SE Enterprise Data Warehouse (EDW)/ Data Accurac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2, Market Participant (MP) Completes Early Delivery System (EDS) 3 Related Train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9, Validate Zonal and Nodal Common Constrai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5, Generate LMPs for 6 Month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6, QSE and TSP Telemetry/ICCP System Availabi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2, ERCOT Telemetry/ICCP System Failove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3, Validate SE Performance and Accurac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0, ERCOT Eng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228600" y="793800"/>
          <a:ext cx="8763120" cy="5272200"/>
        </p:xfrm>
        <a:graphic>
          <a:graphicData uri="http://schemas.openxmlformats.org/drawingml/2006/table">
            <a:tbl>
              <a:tblPr/>
              <a:tblGrid>
                <a:gridCol w="2057400"/>
                <a:gridCol w="556272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76480">
                <a:tc>
                  <a:txBody>
                    <a:bodyPr lIns="90000" rIns="90000" tIns="46800" bIns="46800" anchor="ctr">
                      <a:noAutofit/>
                    </a:bodyPr>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ummary</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cent TPTF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76480">
                <a:tc>
                  <a:txBody>
                    <a:bodyPr lIns="90000" rIns="90000" tIns="46800" bIns="46800" anchor="ctr">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xt Meetings</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ming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1128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proval of Readiness Metric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11, TPTF endorsed ERCOT moving forward with the metrics MP12 and E3 as modified by TPTF on September 11, 2007 in the Active Metric Inventory v1.2. The motion carried by roll-call vote, with 100% in favor and two abstentions (First Choice Power and AEP). All Market Segments, except the Consumer Market Segment, were represented for the vo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4, TPTF endorsed ERCOT moving forward with the metrics EMO9, MP6, N2, and N3 as modified by TPTF on September 24, 2007 in the Active Metric Inventory v1.3. The motion carried by roll-call vote, with 100% in favor and two abstentions (TXU and Exelon). All Market Segments, except the Consumer and Cooperative Market Segments, were represented for the vo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6, TPTF endorsed ERCOT moving forward with metrics MO5 and E0 as modified by TPTF on September 26, 2007 in the Active Readiness Metric Inventory v1.3. The motion carried by roll-call vote, with 100% in favor and three abstentions (CPS San Antonio, City of Allen, and City of Eastland). All Market Segments were represented for the vote. </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15920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pproval of Milestone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 of the following Milestones –</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Management System (EMS) Business Requirements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 Conceptual System Design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ed Congestion Revenue Right (CRR) Requirements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Management System (MMS) Business Requirements complete</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7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380880" y="781200"/>
            <a:ext cx="8458200" cy="5328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restructured </a:t>
            </a:r>
            <a:r>
              <a:rPr b="1" lang="en-US" sz="1800" spc="-1" strike="noStrike">
                <a:solidFill>
                  <a:srgbClr val="000000"/>
                </a:solidFill>
                <a:latin typeface="Arial"/>
              </a:rPr>
              <a:t>CRR Requirements Specification v2.5</a:t>
            </a:r>
            <a:r>
              <a:rPr b="0" lang="en-US" sz="1800" spc="-1" strike="noStrike">
                <a:solidFill>
                  <a:srgbClr val="000000"/>
                </a:solidFill>
                <a:latin typeface="Arial"/>
              </a:rPr>
              <a:t> as submitted to TPTF. The motion carried by roll-call vote, with 100% in favor and five abstentions (AEP, Calpine, City of Allen, City of Eastland, and Reliant).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name changes as amended by TPTF and documented in the EMS presentation. The motion carried by voice vote with no objections and no abstentions.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a:t>
            </a:r>
            <a:r>
              <a:rPr b="1" lang="en-US" sz="1800" spc="-1" strike="noStrike">
                <a:solidFill>
                  <a:srgbClr val="000000"/>
                </a:solidFill>
                <a:latin typeface="Arial"/>
              </a:rPr>
              <a:t>EMS CSD v0.13</a:t>
            </a:r>
            <a:r>
              <a:rPr b="0" lang="en-US" sz="1800" spc="-1" strike="noStrike">
                <a:solidFill>
                  <a:srgbClr val="000000"/>
                </a:solidFill>
                <a:latin typeface="Arial"/>
              </a:rPr>
              <a:t>. The motion carried by unanimous roll-call vote, with two abstentions (City of Allen and City of Eastland).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a:t>
            </a:r>
            <a:r>
              <a:rPr b="1" lang="en-US" sz="1800" spc="-1" strike="noStrike">
                <a:solidFill>
                  <a:srgbClr val="000000"/>
                </a:solidFill>
                <a:latin typeface="Arial"/>
              </a:rPr>
              <a:t>MMS Overall MMS System and Other Processes Requirements (B2) v1.02</a:t>
            </a:r>
            <a:r>
              <a:rPr b="0" lang="en-US" sz="1800" spc="-1" strike="noStrike">
                <a:solidFill>
                  <a:srgbClr val="000000"/>
                </a:solidFill>
                <a:latin typeface="Arial"/>
              </a:rPr>
              <a:t> following changes discussed by TPTF on September 26, 2007. The motion carried by roll-call vote, with 100% in favor and one abstention (TNMP). All Market Segments, except the Consumer Market Segment,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a:t>
            </a:r>
            <a:r>
              <a:rPr b="1" lang="en-US" sz="1800" spc="-1" strike="noStrike">
                <a:solidFill>
                  <a:srgbClr val="000000"/>
                </a:solidFill>
                <a:latin typeface="Arial"/>
              </a:rPr>
              <a:t>MMS SCED and Real-Time MMS Processes Requirements (B2) v1.02</a:t>
            </a:r>
            <a:r>
              <a:rPr b="0" lang="en-US" sz="1800" spc="-1" strike="noStrike">
                <a:solidFill>
                  <a:srgbClr val="000000"/>
                </a:solidFill>
                <a:latin typeface="Arial"/>
              </a:rPr>
              <a:t> following changes discussed by TPTF on September 26,2007. The motion carried by roll-call vote, with 100% in favor and three abstentions (CenterPoint, TNMP, and Exelon). All Market Segments, except the Consumer Market Segment, were represented for the vo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
          <p:cNvSpPr/>
          <p:nvPr/>
        </p:nvSpPr>
        <p:spPr>
          <a:xfrm>
            <a:off x="380880" y="685800"/>
            <a:ext cx="8458200" cy="5599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ergy Management System (E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Data Models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ynamic Ratings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rced Outage Detection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eneration Subsystem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ad Forecasting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Network Security and Stability Analysis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utage Evaluation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upervisory Control and Data Acquisition (SCADA)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tate Estimator (SE)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oltage Support Services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ind Power Forecasting Requirements (B2) v3.0.</a:t>
            </a:r>
            <a:endParaRPr b="0" lang="en-US" sz="13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S Conceptual System Design v1.0 </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structured Congestion Revenue Right (CRR) Requirements Specification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 Management System (M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MS Overall MMS System and Other Processes Requirements (B2) v1.02</a:t>
            </a:r>
            <a:r>
              <a:rPr b="0" lang="en-US" sz="1300" spc="-1" strike="noStrike">
                <a:solidFill>
                  <a:srgbClr val="000000"/>
                </a:solidFill>
                <a:latin typeface="Arial"/>
              </a:rPr>
              <a:t> </a:t>
            </a:r>
            <a:endParaRPr b="0" lang="en-US" sz="13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400" spc="-1" strike="noStrike">
                <a:solidFill>
                  <a:srgbClr val="000000"/>
                </a:solidFill>
                <a:latin typeface="Arial"/>
              </a:rPr>
              <a:t>MMS SCED and Real-Time MMS Processes Requirements (B2) v1.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8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653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September 10-11 and September 24-26</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81, Automatic Voltage Regulator (AVR) Statu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submitting the two comments for NPRR081 as discussed by TPTF on September 10, 2007 to Market Rules for forwarding to PRS. The motion carried by roll-call vote, with 100% in favor and four abstentions (LCRA, Austin Energy, First Choice Power, and AEP). All Market Segments were represented for the vo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gestion Revenue Rights (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tructured CRR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restructured CRR Requirements Specification v2.5 as submitted to TPTF. The motion carried by roll-call vote, with 100% in favor and five abstentions (AEP, Calpine, City of Allen, City of Eastland, and Reliant).  All Market Segments were represented for the vote.</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0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537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gestion Revenue Rights (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CRR Clarification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rification that McCamey Flowgate Rights (MCFRIs) will be allocated to Wind Generation Resources (WGR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rification of when Settlement Points associated with new Resources become effectiv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ject Document Naming Conven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Updates to Reflect ERCOT Naming Conven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name changes as amended by TPTF and documented in the EMS presentation. The motion carried by voice vote with no objections and no abstentions. All Market Segment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Conceptual System Design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EMS CSD v0.13. The motion carried by unanimous roll-call vote, with two abstentions (City of Allen and City of Eastland).  All Market Segments were represented for the vote.</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0 (continued)</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4163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to Replace NPRR074, Revisions to Monitoring and Qualification Tests in Section 8, Performance Monitoring and Complian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draft NPRR to replace NPRR074, including ERCOT staff comments. The motion carried by roll-call vote, with 100% in favor and two abstentions (First Choice Power and AEP). All Market Segments, except the Municipal and Consumer Market Segment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onal-to-Nodal Subgroup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moved to endorse PRR727 as modified by TPTF on September 10, 2007. The motion carried by roll-call vote, with 100% in favor and seven abstentions (Calpine, StarTex Power, Strategic Energy, Accent Energy, Cirro Group, Green Mountain Energy, and Integrys). All Market Segments, except the Municipal and Consumer Market Segments, were represented for the vote.</a:t>
            </a: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1</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48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New Broad-Form Non-Disclosure Agreement (NDA)</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NPRR078, Simplifying the Dispute Proces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endorsed the COPS-approved comments from September 10, 2007 for NPRR078, Simplifying the Dispute Process, and to endorse that the functionality is needed for go-live. The motion carried by roll-call vote, with 100% in favor and three abstentions (CenterPoint, TNMP, and Calpine).  All Market Segments, except the Consumer Market Segment,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endorse ERCOT moving forward with the metrics MP12 and E3 as modified by TPTF on September 11, 2007 in the Active Metric Inventory v1.2. The motion carried by roll-call vote, with 100% in favor and two abstentions (First Choice Power and AEP). All Market Segments, except the Consumer Market Segment, were represented for the vote.</a:t>
            </a: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1 (continued)</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21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Systems Integration (CSI)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Draft NPRRs for Settl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ettlement Clarifications to Reliability Unit Commitment (RUC) Capacity Shortfall Ratio Share Formula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implifying OBLRACT and OPTRAC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MS documentation and schedule</a:t>
            </a: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4</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4886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Subgroup Activities for Section 8 Monitoring Programs – Further discussion scheduled for September 26</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Review of LFC Handbook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the Nodal Startup Transition Rul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moved to endorse the Nodal Startup Transition Rules as proposed to TPTF with the exception that the duration period be extended from 45 days to 60 days. The motion failed by roll-call vote, with 60% in favor and seven abstentions (Brazos, LCRA, Austin Energy, CenterPoint, TNMP, AEP, and NRG). All Market Segment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moved to endorse the Nodal Startup Transition Rules as proposed to TPTF. The motion carried by roll-call vote, with 100% in favor and nine abstentions (Brazos, CenterPoint, TNMP, AEP, NRG, Calpine, Coral, Exelon, and J. Aron). All Market Segments were represented for the vote.</a:t>
            </a: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4 (continued)</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305920" cy="520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Discussion of comments for NPRR082, Section 8, Performance Monitoring and Compliance, Revisions to Monitoring and Qualification Tests – Further discussion scheduled for September 26</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Iteration 3 metric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MP6, Qualified Scheduling Entity (QSE) and Transmission Service Provider (TSP) Telemetry/Inter-Control Center Protocol (ICCP) System Availability</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9, Validate Zonal and Nodal Common Constrai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2, ERCOT Telemetry/ ICCP System Failove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3, Validate SE Performance and Accuracy</a:t>
            </a:r>
            <a:endParaRPr b="0" lang="en-US" sz="1800" spc="-1" strike="noStrike">
              <a:solidFill>
                <a:srgbClr val="000000"/>
              </a:solidFill>
              <a:latin typeface="Arial"/>
            </a:endParaRPr>
          </a:p>
          <a:p>
            <a:pPr lvl="4" marL="1828800">
              <a:lnSpc>
                <a:spcPct val="85000"/>
              </a:lnSpc>
              <a:spcBef>
                <a:spcPts val="675"/>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endorsed ERCOT moving forward with metrics MP6, EMO9, N2, and N3 as modified by TPTF on September 24, 2007 in the Active Readiness Metric Inventory v1.3. The motion carried by roll-call vote, with 100% in favor and two abstentions (TXU and Exelon). All Market Segments, except the Consumer and Cooperative Market Segments, were represented for the vote.</a:t>
            </a: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S. Bridges</cp:lastModifiedBy>
  <dcterms:modified xsi:type="dcterms:W3CDTF">2007-09-27T18:28:31Z</dcterms:modified>
  <cp:revision>807</cp:revision>
  <dc:subject/>
  <dc:title>TAC Update</dc:title>
</cp:coreProperties>
</file>